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78D-3E18-4F8D-9909-ABEF43CB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C1B-B64B-4608-9203-CAB3CD4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365-90D2-42E5-9BC2-2C355F7F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C73-2FB8-40FD-9894-C4A9F763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E5E-8F50-482C-BAA7-DEE4EBB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155-2142-415E-97A8-06D5EFE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5FF-A244-4AE8-BB2E-64638653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D1A-649D-4F01-BD0B-90DF834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B17-4E7D-4100-802F-8EC0BEF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88-90C8-4DF0-ABC5-A592CEF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C10-C17E-4670-9011-BCDEAB3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EE1-F480-4517-981C-F479C30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D472-9058-4CD4-A94D-2F50CCEF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ravelblog.org/Photos/286136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travelblog.org/Photos/286136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travelblog.org/Photos/286136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, Incas, and 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amantha Im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major pre-Columbian civilizations that existed in Central and South America are the Maya, Aztec, and Incas. 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used other tribes as slaves and hu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ifices to the many gods they believed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their civilization was Tenochtitlan. It was built in the middle of a lake surrounded by mountains which made it harder to find and conqu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 civilization was brought down by a disease called Small P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819520" cy="231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1880" y="6171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 civilization was on a part of the Mexican coast called the Yucatan Penins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Maya civilization was not just one major city it was much harder for conquistadors to overthrow the May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had slaves that sometimes could gain their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3352680"/>
            <a:ext cx="245772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5920" y="624780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about-guatemal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 civilization was on the Andes mountains in Peru . Also it was in sout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the Inca civilization was Cuz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polytheistic witch means they believe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3657600" cy="288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6760" y="60951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horterword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500 men and 16 horses to conquer the Aztec people in their capital of Tenochtitlan in 151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thought that he was a pale skinned god called Quetzalcoatl and that their horses were be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2813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6171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ckleheadhumo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raveled with 180 men and 27 horses into Peru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 the Inca civi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kidnapped Atahualpa and demanded that a room be filled with gold and silver as a ransom to return Atahualp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conquistador witch is someone who conquers or takes over by fo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hualpa was the Inca’s l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66880" y="62478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uman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have Central and South America changed forever by the conquistad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Aztec, Inca, and Maya culture and traditions have disappeared forever because Spanish conquistadors and explorers killed a lot of people that knew and followed the traditions of Aztecs, Mayas, and Incas. Artif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Aztec Art (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Aztec Art (2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ztec Art (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76920" y="3200400"/>
            <a:ext cx="3600360" cy="342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9760" y="60951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cityreview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4:44Z</dcterms:created>
  <dc:creator>jklib</dc:creator>
  <dc:description/>
  <dc:language>en-US</dc:language>
  <cp:lastModifiedBy>jklib</cp:lastModifiedBy>
  <dcterms:modified xsi:type="dcterms:W3CDTF">2011-11-28T14:45:52Z</dcterms:modified>
  <cp:revision>10</cp:revision>
  <dc:subject/>
  <dc:title>Conquistadors</dc:title>
</cp:coreProperties>
</file>